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8880480"/>
            <a:ext cx="2971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94D51-C98E-41FB-88F0-44305AC2B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614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80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300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300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496440"/>
            <a:ext cx="83757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80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0" y="6248520"/>
            <a:ext cx="19051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986B5-0C58-44A1-9B95-17F915C635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096280"/>
            <a:ext cx="83818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Network related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886200"/>
            <a:ext cx="47242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artosz Belter, Wojbor Bogacki, Marcin Garstk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ciej Głowiak, Radosław Krzywan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man Łapa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ABRIC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znań, 25 Septem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twork monitoring and measurement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 PerfS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828800"/>
            <a:ext cx="83804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ed by GN2 project, Internet2 (USA), ESnet (USA), RNP (Brasil), University of Delav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rastructure for network performance monitoring, making it easier to solve end-to-end performance problems on paths crossing several netwo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of services delivering performance measurements in a federated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ll-defined common interface to measurement/monitoring services is 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ed services: ping (round trip time), iperf (throughput), ovamp (one way delay); others under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repository for historic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surement points in a network; measurements can be triggered by user/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 measurements points already implemented in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examp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CLUSTE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828800"/>
            <a:ext cx="83804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sh national research project started at the end of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create productive, efficient and secure GRI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2 local clusters connected via national network (dedicated 1GE lin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SNC is leading network related task – including active measurement and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sult – an integrated tool able to track and show the status of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surement agents controlled by a central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wo types of agents – backbone agents (in the network core) and local agents (withing computing clu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ve network parameters are collected: packet round-trip time, jitter, loss, packet reordering, packet du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 have access to the measured values but they do not trigger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828800"/>
            <a:ext cx="838044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r goal – to develop a network module for the GRID gateway – with interfaces to the services which are available in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odule will make the GRID gateway aware of the status of the network and will interface the management plane of the network to ensure the needed transmissio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r data transmission must be specified (bandwidth requirements, number of simultaneous transmission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ration of a single transmission etc.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etwork related topics in WP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733840"/>
            <a:ext cx="838044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make the GRID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ware of the available transmissio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monitor the state of the network and use it as one of the decision criteria fo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ID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reserve the bandwidth needed for data transmission end secure the QoS parameters of th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733840"/>
            <a:ext cx="838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hy Q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 sensi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lay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 variation or 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time control from remote sites (astronomy, medicine) (synchronous, no packet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pac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QoS paramet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way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way packet delay 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5640" y="1628640"/>
            <a:ext cx="8066160" cy="863640"/>
            <a:chOff x="755640" y="1628640"/>
            <a:chExt cx="8066160" cy="863640"/>
          </a:xfrm>
        </p:grpSpPr>
        <p:sp>
          <p:nvSpPr>
            <p:cNvPr id="54" name=""/>
            <p:cNvSpPr/>
            <p:nvPr/>
          </p:nvSpPr>
          <p:spPr>
            <a:xfrm>
              <a:off x="755640" y="1628640"/>
              <a:ext cx="7632720" cy="863640"/>
            </a:xfrm>
            <a:prstGeom prst="rect">
              <a:avLst/>
            </a:prstGeom>
            <a:solidFill>
              <a:srgbClr val="ccccff">
                <a:alpha val="28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1628640"/>
              <a:ext cx="80661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goal of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uality of Servi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in the network is the ability to provide an improved network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ice by providing dedicated bandwidth with controlled loss, latency and latency variation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racteristic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ools for bandwidth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838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wo network technologies avail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 routed transmission ov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NRENs (limited capacity, wid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vailabilit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dicated lightpaths i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other networks (unlimited capacity, limited avai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 tools for bandwidth reservations in the two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S for Premium IP Service in IP rout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oD for opt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oth tools developed by GN2 project for implementation in 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 and N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emium IP and 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52480"/>
            <a:ext cx="8380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mium IP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mium IP traffic has priority over other traffic (best-eff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mium IP traffic gets the best possible Qo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he amount of Premium IP traffic on a given link must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rvice must be booked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vance Multi-domain Provisioning Syst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MP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derated resource reservation system for Premiu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domain - an authenticated and authorized client can, via a single request, reserve an end-to-end path across multiple federated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 Multi-domain Provisioning Syst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8380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rvice Orient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ervices technology in use: interfaces specified in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-domain Provisioning Service (multi-dom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-domain Provisioning Service (single-dom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twork Information System (Layer 3 Topology) / Pathfind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ulti-domain peer-to-peer federat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mains aware of their neighbour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ust relationship established between AMPS neighb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-Phase-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domain Premium IP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current status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and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8380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MP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ersion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utli-domain rea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mium IP Pilot Serv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be ready so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N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An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T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N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RENs’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3276720"/>
          <a:ext cx="6192720" cy="3028680"/>
        </p:xfrm>
        <a:graphic>
          <a:graphicData uri="http://schemas.openxmlformats.org/drawingml/2006/table">
            <a:tbl>
              <a:tblPr/>
              <a:tblGrid>
                <a:gridCol w="1854000"/>
                <a:gridCol w="1851120"/>
                <a:gridCol w="2487600"/>
              </a:tblGrid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Serv/Q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domain P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(Essent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(Poss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follow other NR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inte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238880" y="5486400"/>
            <a:ext cx="121932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ENA 2005 Compen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ptical networks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d Bandwidth on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28800"/>
            <a:ext cx="8380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tical transmission is available in part of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 (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+ service) and in some NR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r’s transmission directly on optical network (without IP rou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ess interfaces: Gigabit Ethernet, 10Gigabit Ethernet, S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dwidth up to 10Gbps for a singl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d reservation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dwidth on Demand (BoD) service developed in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 for automatic reservations and provisioning of bandwidth in multiple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FP over SDH, L2 MPLS VPN, Native Ethernet, Premiu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D service is under development (not available y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totype already tes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D service will allow for a single reservation for multipl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oD service in a heterogeneo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372520" cy="44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725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in Garstka</cp:lastModifiedBy>
  <dcterms:modified xsi:type="dcterms:W3CDTF">2006-09-25T15:28:52Z</dcterms:modified>
  <cp:revision>14</cp:revision>
  <dc:subject/>
  <dc:title>GEANT2 SA3  Advance Multi-doman Provisioning System</dc:title>
</cp:coreProperties>
</file>